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0C51-93B8-47FB-BCB7-B4D6F3DC0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5AAD-F989-44BC-9032-B5B57C7D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232E-5A14-43D1-844D-0AAB4C67F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C131-28A8-476F-877A-F1CC7F596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BEDD-3B07-45CE-B4D6-9B6BA3CA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6557-F9C1-4826-A6AF-49C1330C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7AFC-2EB6-4F71-BC11-2B749846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2B01-E79B-45D8-BF06-295DF5AF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EA99-3541-4EAB-BAE8-B0971984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1480-B1EC-4350-838B-B4054916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3379-CBC6-47B9-91BA-CDD66476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5D41-22F0-4681-B361-2662120E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77E6-E508-4890-9B1F-DCE1C606E02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. 3"/>
          <p:cNvSpPr/>
          <p:nvPr/>
        </p:nvSpPr>
        <p:spPr>
          <a:xfrm>
            <a:off x="4572000" y="0"/>
            <a:ext cx="4572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427280" y="5084640"/>
            <a:ext cx="4392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О «Гильдия маркетологов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Автофигура 2"/>
          <p:cNvSpPr/>
          <p:nvPr/>
        </p:nvSpPr>
        <p:spPr>
          <a:xfrm>
            <a:off x="0" y="0"/>
            <a:ext cx="914400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85800" indent="-685800">
              <a:lnSpc>
                <a:spcPct val="8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c00000"/>
                </a:solidFill>
                <a:latin typeface="Calibri"/>
              </a:rPr>
              <a:t>Выработка эффективных маркетинговых решений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c00000"/>
                </a:solidFill>
                <a:latin typeface="Calibri"/>
              </a:rPr>
              <a:t>        </a:t>
            </a:r>
            <a:r>
              <a:rPr b="0" i="1" lang="ru-RU" sz="4100" spc="-1" strike="noStrike">
                <a:solidFill>
                  <a:srgbClr val="c00000"/>
                </a:solidFill>
                <a:latin typeface="Calibri"/>
              </a:rPr>
              <a:t>Особенности инструментов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c00000"/>
                </a:solidFill>
                <a:latin typeface="Calibri"/>
              </a:rPr>
              <a:t>        </a:t>
            </a:r>
            <a:r>
              <a:rPr b="0" i="1" lang="ru-RU" sz="4100" spc="-1" strike="noStrike">
                <a:solidFill>
                  <a:srgbClr val="c00000"/>
                </a:solidFill>
                <a:latin typeface="Calibri"/>
              </a:rPr>
              <a:t>продвижения в В2В маркетинге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http://imagebelarus.by/sites/default/files/gm_belarus.png"/>
          <p:cNvPicPr/>
          <p:nvPr/>
        </p:nvPicPr>
        <p:blipFill>
          <a:blip r:embed="rId1"/>
          <a:stretch/>
        </p:blipFill>
        <p:spPr>
          <a:xfrm>
            <a:off x="2627280" y="4653000"/>
            <a:ext cx="152388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"/>
          <p:cNvPicPr/>
          <p:nvPr/>
        </p:nvPicPr>
        <p:blipFill>
          <a:blip r:embed="rId2"/>
          <a:stretch/>
        </p:blipFill>
        <p:spPr>
          <a:xfrm>
            <a:off x="2556000" y="6093000"/>
            <a:ext cx="1628640" cy="428400"/>
          </a:xfrm>
          <a:prstGeom prst="rect">
            <a:avLst/>
          </a:prstGeom>
          <a:ln w="0">
            <a:noFill/>
          </a:ln>
        </p:spPr>
      </p:pic>
      <p:sp>
        <p:nvSpPr>
          <p:cNvPr id="46" name="Подзаголовок 2"/>
          <p:cNvSpPr/>
          <p:nvPr/>
        </p:nvSpPr>
        <p:spPr>
          <a:xfrm>
            <a:off x="4284720" y="5950080"/>
            <a:ext cx="4859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АО «АГАТ-системы управл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  <a:ea typeface="Tahoma"/>
              </a:rPr>
              <a:t>PROMOTION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4522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формирование потребителей о товаре и его параметр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ирование образа престижности, низких цен и инновац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держание популярности товаров и услу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менение стереотипов восприятия това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имулирование участников системы сбы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вижение более дорогих това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лагоприятная информация о предприят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  <a:ea typeface="Tahoma"/>
              </a:rPr>
              <a:t>Какие рекламные инструменты «работают» на рынке В2В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2" descr="Эффективное продвижение товаров и услуг: 7 шагов к успеху на рынке B2B"/>
          <p:cNvPicPr/>
          <p:nvPr/>
        </p:nvPicPr>
        <p:blipFill>
          <a:blip r:embed="rId1"/>
          <a:stretch/>
        </p:blipFill>
        <p:spPr>
          <a:xfrm>
            <a:off x="2268360" y="1417680"/>
            <a:ext cx="428328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  <a:ea typeface="Tahoma"/>
              </a:rPr>
              <a:t>Особенности B2B рынка 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Calibri"/>
                <a:ea typeface="Tahoma"/>
              </a:rPr>
              <a:t>и его участни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1" descr="b2b-segmentation-ex"/>
          <p:cNvPicPr/>
          <p:nvPr/>
        </p:nvPicPr>
        <p:blipFill>
          <a:blip r:embed="rId1"/>
          <a:stretch/>
        </p:blipFill>
        <p:spPr>
          <a:xfrm>
            <a:off x="0" y="2637000"/>
            <a:ext cx="911232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  <a:ea typeface="Tahoma"/>
              </a:rPr>
              <a:t>Первый шаг: 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Calibri"/>
                <a:ea typeface="Tahoma"/>
              </a:rPr>
              <a:t>налаживаем контакт с клиент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2" descr="b2b_sales_model1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  <a:ea typeface="Tahoma"/>
              </a:rPr>
              <a:t>Второй шаг: 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Calibri"/>
                <a:ea typeface="Tahoma"/>
              </a:rPr>
              <a:t>ищем правильные аргументы 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Calibri"/>
                <a:ea typeface="Tahoma"/>
              </a:rPr>
              <a:t>для переговор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3" descr="b2b_sales_model2"/>
          <p:cNvPicPr/>
          <p:nvPr/>
        </p:nvPicPr>
        <p:blipFill>
          <a:blip r:embed="rId1"/>
          <a:stretch/>
        </p:blipFill>
        <p:spPr>
          <a:xfrm>
            <a:off x="0" y="2786040"/>
            <a:ext cx="914400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9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  <a:ea typeface="Tahoma"/>
              </a:rPr>
              <a:t>Третий шаг: 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Calibri"/>
                <a:ea typeface="Tahoma"/>
              </a:rPr>
              <a:t>разрабатываем программу поддержки клиен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Рисунок 4" descr="b2b_sales_model3"/>
          <p:cNvPicPr/>
          <p:nvPr/>
        </p:nvPicPr>
        <p:blipFill>
          <a:blip r:embed="rId1"/>
          <a:stretch/>
        </p:blipFill>
        <p:spPr>
          <a:xfrm>
            <a:off x="0" y="2708280"/>
            <a:ext cx="914400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  <a:ea typeface="Tahoma"/>
              </a:rPr>
              <a:t>Важно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  <a:ea typeface="Tahoma"/>
              </a:rPr>
              <a:t>определить эффективный инструментарий рекламы на каждом из этих этап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Отличия маркетинга В2В от В2С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0" y="15001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нность В2В брэндов создается качеством продукции, сервисной поддержкой, работой с клиентами и выполнением договорных обязательст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ямые личные продаж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троение персонифицированных отношений с клиентам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мещение приоритетов 4Р с продвижения в аналитику, продукт-менеджмент, продаж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ние конкурентных преимуществ не только в товаре, но и в формах сотрудничества (сервис и условия работы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Отличия маркетинга В2В от В2С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ркетинговые бюджеты по сравнению с В2С значительно меньше (до 5% от товарооборота – это уже очень много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щий уровень маркетинговой активности ниже, чем на В2С рынках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нее агрессивное продвижение и навязчивость рекламы, упор больше на PR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епень креатива уступает прагматичности и простоте маркетинговых посылов (с эти еще надо спорить!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ля непосредственно ATL и BTL в общем объеме продвижения значительно меньше, чем у В2С компаний, и практически отсутствие Трейд-маркетинг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Отличия маркетинга В2В от В2С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1143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левая аудитория гораздо уже и меньше, чем на В2С (как правило, юр.лица, ограниченные отраслью или рынком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рвисная составляющая и условия сотрудничества – часто значимые конкурентные преимуще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  <a:ea typeface="Tahoma"/>
              </a:rPr>
              <a:t>Давайте поговорим про В2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1" descr="http://fantasticimago.com/wp-content/uploads/2014/03/B2B_B2C.png"/>
          <p:cNvPicPr/>
          <p:nvPr/>
        </p:nvPicPr>
        <p:blipFill>
          <a:blip r:embed="rId1"/>
          <a:stretch/>
        </p:blipFill>
        <p:spPr>
          <a:xfrm>
            <a:off x="17640" y="1773360"/>
            <a:ext cx="90183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Особенности продвижения в В2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8571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обходимость обращаться к узкому кругу потребителе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эффективность массовой рекламы  в СМ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нешний вид рекламных материалов - на втором месте по значимости. На первом - наполнение, достоверность информации и удобство её использова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сокая роль Интернета в продвижен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исания высокотехнологичных продуктов, как правило, тяжелы для понимания, необходимо адаптировать для рядового читателя и выделять ключевые особенности и преимуществ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эффективных продаж - необходима организация сервиса техник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Наиболее эффективные инструменты В2В маркетинг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1285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ямые продажи – основной и самый эффективный инструмент продвижения и коммуникации с клиентам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чные отношения с ключевым клиентами – залог лояльности и долгосрочности сотрудничеств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ркетинговая поддержка  продаж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бота с референтными лицами и экспертами мнений на своих рынках, влияющих на общее мнение о компании или продукции на рынк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учение собственного персонала (глубокое знание продуктов и торгового предложения в целом, навыки прямых продаж и общения с разными категориями ЛПРов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Наиболее эффективные инструменты В2В маркетинг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раслевые выставк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тернет-сайт (стремление попасть в 10-ку в передовых поисковиках по ключевым словам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сутствие в целевых справочниках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ециализированные СМИ (имиджевая реклама и создания репутации экспертов, освещая профессиональные темы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ямые рассылки (один из самых простых, но не эффективных способов с попаданием до 2%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граммы лояльности для В2В клиент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  <a:ea typeface="Tahoma"/>
              </a:rPr>
              <a:t>Формируем дорожную карту!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DorozhnayaKarta_kg"/>
          <p:cNvPicPr/>
          <p:nvPr/>
        </p:nvPicPr>
        <p:blipFill>
          <a:blip r:embed="rId1"/>
          <a:stretch/>
        </p:blipFill>
        <p:spPr>
          <a:xfrm>
            <a:off x="0" y="671400"/>
            <a:ext cx="9144000" cy="61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Первый шаг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0" y="2214720"/>
            <a:ext cx="91440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гментируем клиентов, расставляем приоритет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рабатываем отдельные программы работ для каждой группы клиент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имся переводить личные контакты менеджеров в стратегические коммуникац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ируем алгоритмы реализации программы построения коммуникаций с клиентам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оворим не о своём продукте, а о решении задач клиен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Содержимое 2"/>
          <p:cNvSpPr/>
          <p:nvPr/>
        </p:nvSpPr>
        <p:spPr>
          <a:xfrm>
            <a:off x="1042920" y="1197000"/>
            <a:ext cx="7416720" cy="719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ктивизируем личные прода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Второй шаг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0" y="1947600"/>
            <a:ext cx="91440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мним, что ключевая роль  - у прямого маркетинг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учаем персонал (продавец – эксперт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няем рассылки для удержания старых клиентов и привлечения новых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уем современные способы организации прямого общения с клиентом: корпоративные блоги, онлайн-сообщества, отраслевые клуб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уем бесплатные консультация с техническими специалистами компан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убликуем статьи, отчеты, нов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Содержимое 2"/>
          <p:cNvSpPr/>
          <p:nvPr/>
        </p:nvSpPr>
        <p:spPr>
          <a:xfrm>
            <a:off x="1042920" y="1197000"/>
            <a:ext cx="7416720" cy="719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дем прямым маркетинг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Третий шаг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" y="198864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пределяем цели и задачи сайта компании на B2B рынке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елаем сайт привлекательным для посетителей и прибыльным для компании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равниваем возможности различных каналов привлечения посетителей на сайт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нализируем, какие из доступных в Интернет маркетинговых инструментов подходят именно для вашей компании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ботаем с поисковиками и контентом, SEO-продвижением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звлекаем пользу из корпоративных блогов, он-лайн-сообществ и вебинаров, твиттера, форумов, рейтингов, каталогов, видео- и аудиоконтента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рганизуем бесплатный триал-период или онлайн - демонстрацию  продукции/услуг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Содержимое 2"/>
          <p:cNvSpPr/>
          <p:nvPr/>
        </p:nvSpPr>
        <p:spPr>
          <a:xfrm>
            <a:off x="1042920" y="1000080"/>
            <a:ext cx="7416720" cy="719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езаем путь через Интер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Четвертый шаг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1680" y="1928880"/>
            <a:ext cx="9144000" cy="35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нализируем обязательные рекламные материалы для B2B рынка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чимся писать продающие материалы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авильно описываем свои товары и услуги: стиль, шрифты и цвета, рекламные и информационные тексты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глядно представляем диаграммы и графики, изображения и иллюстрации, используем инфографику для буклетов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спользуем в рекламных целях внутренние документы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здаем систему айдентики, которая была бы единой для всех проектов, но при этом позволила бы четко отличить их друг от друг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Содержимое 2"/>
          <p:cNvSpPr/>
          <p:nvPr/>
        </p:nvSpPr>
        <p:spPr>
          <a:xfrm>
            <a:off x="1042920" y="1197000"/>
            <a:ext cx="7416720" cy="719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веряем свою карту - рекламные материал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Пятый шаг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933200"/>
            <a:ext cx="9144000" cy="35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бираем ту рекламу, которая работает на B2B рынк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няем основные методы  и инструменты рекламных воздействий , наиболее подходящие вашим задача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аствуем в отраслевых выставках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ботаем над  нейминго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бираем   «свои» СМИ и формы подачи реклам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тивно используем рекламные возможности Интернет: форматы, место, принцип размещ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уем сувенирную продукци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одержимое 2"/>
          <p:cNvSpPr/>
          <p:nvPr/>
        </p:nvSpPr>
        <p:spPr>
          <a:xfrm>
            <a:off x="1042920" y="1197000"/>
            <a:ext cx="7416720" cy="719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спользуем базовые методы рекламных воздействи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Шестой шаг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2214720"/>
            <a:ext cx="91440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стигаем цели через систему общественных коммуникаций - Public Relation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держиваем интерес к компании с помощью; новостной/информационной рассылк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уем Кейс стади (Case Study) (История успеха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ируем Белую книгу (White Paper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одим конференции, семинары и мастер-класс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няем стратегию кооперации с конкурентам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уем «сарафанное радио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Содержимое 2"/>
          <p:cNvSpPr/>
          <p:nvPr/>
        </p:nvSpPr>
        <p:spPr>
          <a:xfrm>
            <a:off x="1042920" y="1197000"/>
            <a:ext cx="7416720" cy="719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беждаем клиентов в своих преимущества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Основные отличия В2В маркетинга от В2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99720" y="2143080"/>
            <a:ext cx="728676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основаны непосредственно отличиями профессиональных и потребительских рынков, начиная от средней стоимости единицы товара, мотивов и способов принятия решений о покупке, заканчивая количеством потребителей на данных рынках, способами маркетинговой коммуникации и воздейств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Седьмой шаг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240" y="2550600"/>
            <a:ext cx="9144000" cy="35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ределяем ключевые показатели эффективности коммуникаций на B2B рынк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ределяем эффективность всех маркетинговых действий: рекламы, рассылок, акц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читаем прибыль, сокращаем потери, делаем выво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Содержимое 2"/>
          <p:cNvSpPr/>
          <p:nvPr/>
        </p:nvSpPr>
        <p:spPr>
          <a:xfrm>
            <a:off x="1042920" y="1197000"/>
            <a:ext cx="7416720" cy="719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ряем достигнут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1989000"/>
            <a:ext cx="8229600" cy="28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c00000"/>
                </a:solidFill>
                <a:latin typeface="Calibri"/>
              </a:rPr>
              <a:t>В2В —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c00000"/>
                </a:solidFill>
                <a:latin typeface="Calibri"/>
              </a:rPr>
              <a:t>это всегда долгий брак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c00000"/>
                </a:solidFill>
                <a:latin typeface="Calibri"/>
              </a:rPr>
              <a:t>по верному расчёту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Заголовок 1"/>
          <p:cNvSpPr/>
          <p:nvPr/>
        </p:nvSpPr>
        <p:spPr>
          <a:xfrm>
            <a:off x="15840" y="28440"/>
            <a:ext cx="9144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00000"/>
                </a:solidFill>
                <a:latin typeface="Calibri"/>
              </a:rPr>
              <a:t>План покорения вселенной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09680" y="2060280"/>
            <a:ext cx="81230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Будь мастером своего де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Найдите своего идеального клиен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Приоткройте закулись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Заголовок 1"/>
          <p:cNvSpPr/>
          <p:nvPr/>
        </p:nvSpPr>
        <p:spPr>
          <a:xfrm>
            <a:off x="15840" y="28440"/>
            <a:ext cx="9144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00000"/>
                </a:solidFill>
                <a:latin typeface="Calibri"/>
              </a:rPr>
              <a:t>План покорения вселенной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1" descr="https://scontent-vie.xx.fbcdn.net/hphotos-xpf1/v/t1.0-9/10996668_798576533513505_5587380887783855084_n.jpg?oh=a94d616ac8e53ef6065e909765f8d9bc&amp;oe=5591303F"/>
          <p:cNvPicPr/>
          <p:nvPr/>
        </p:nvPicPr>
        <p:blipFill>
          <a:blip r:embed="rId1"/>
          <a:stretch/>
        </p:blipFill>
        <p:spPr>
          <a:xfrm>
            <a:off x="808200" y="1125360"/>
            <a:ext cx="7580160" cy="56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  <a:ea typeface="Tahoma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908000" y="1267920"/>
            <a:ext cx="55152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рина Петрушко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чальник отдела маркетинга и прода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АО «АГАТ-системы управления» -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правляющая компания холдинг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Геоинформационные системы управления» 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лен и эксперт ОО «Гильдия маркетологов», руководитель проекта «B2B маркетинг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л/факс +375 17 263 80 6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л. моб +375 29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765 65 9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-mail:  petrushko@agat.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-mail:  i_petrushko@mail.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Комплекс маркетинга является основным элементом любой бизнес стратег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4pmodel"/>
          <p:cNvPicPr/>
          <p:nvPr/>
        </p:nvPicPr>
        <p:blipFill>
          <a:blip r:embed="rId1"/>
          <a:stretch/>
        </p:blipFill>
        <p:spPr>
          <a:xfrm>
            <a:off x="0" y="1741320"/>
            <a:ext cx="9144000" cy="4402440"/>
          </a:xfrm>
          <a:prstGeom prst="rect">
            <a:avLst/>
          </a:prstGeom>
          <a:ln w="0">
            <a:noFill/>
          </a:ln>
        </p:spPr>
      </p:pic>
      <p:sp>
        <p:nvSpPr>
          <p:cNvPr id="53" name="Заголовок 1"/>
          <p:cNvSpPr/>
          <p:nvPr/>
        </p:nvSpPr>
        <p:spPr>
          <a:xfrm>
            <a:off x="571680" y="571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Базовая мод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87640" y="333000"/>
            <a:ext cx="231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Calibri"/>
              </a:rPr>
              <a:t>В2В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7pmodel"/>
          <p:cNvPicPr/>
          <p:nvPr/>
        </p:nvPicPr>
        <p:blipFill>
          <a:blip r:embed="rId1"/>
          <a:stretch/>
        </p:blipFill>
        <p:spPr>
          <a:xfrm>
            <a:off x="0" y="3130560"/>
            <a:ext cx="9144000" cy="3295800"/>
          </a:xfrm>
          <a:prstGeom prst="rect">
            <a:avLst/>
          </a:prstGeom>
          <a:ln w="0">
            <a:noFill/>
          </a:ln>
        </p:spPr>
      </p:pic>
      <p:sp>
        <p:nvSpPr>
          <p:cNvPr id="56" name="Стрелка вниз 4"/>
          <p:cNvSpPr/>
          <p:nvPr/>
        </p:nvSpPr>
        <p:spPr>
          <a:xfrm>
            <a:off x="6659640" y="333360"/>
            <a:ext cx="1944720" cy="273528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PEO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000080" y="1356840"/>
            <a:ext cx="721512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ботники компан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рговый персонал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требители - «лидеры мнений»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ояльные потребители и VIP-клиент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тавщ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Заголовок 1"/>
          <p:cNvSpPr/>
          <p:nvPr/>
        </p:nvSpPr>
        <p:spPr>
          <a:xfrm>
            <a:off x="0" y="55008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могут оказывать значимое влияние на восприятие товара в глазах целевого потреб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трелка вниз 4"/>
          <p:cNvSpPr/>
          <p:nvPr/>
        </p:nvSpPr>
        <p:spPr>
          <a:xfrm rot="10800000">
            <a:off x="4000320" y="4142880"/>
            <a:ext cx="888840" cy="854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325160"/>
            <a:ext cx="822960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исывает процесс взаимодействия между потребителем и компание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цесс принятия покупочных решений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 процесс покупки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тпокупочный процес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0" y="52261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основа для совершения покупки на рынке и формирования лояльности кли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трелка вниз 4"/>
          <p:cNvSpPr/>
          <p:nvPr/>
        </p:nvSpPr>
        <p:spPr>
          <a:xfrm rot="10800000">
            <a:off x="4000320" y="4443480"/>
            <a:ext cx="888840" cy="853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PHYSICAL EVID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325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становка, среда, внешний вид персонала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йстви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териальные предмет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путствующие презент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ругие свидетель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Заголовок 1"/>
          <p:cNvSpPr/>
          <p:nvPr/>
        </p:nvSpPr>
        <p:spPr>
          <a:xfrm>
            <a:off x="0" y="52261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позволяет сформировать правильный имидж компании, выделить отличительные характеристики проду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низ 4"/>
          <p:cNvSpPr/>
          <p:nvPr/>
        </p:nvSpPr>
        <p:spPr>
          <a:xfrm rot="10800000">
            <a:off x="4000320" y="4226040"/>
            <a:ext cx="888840" cy="853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  <a:ea typeface="Tahoma"/>
              </a:rPr>
              <a:t>PROMOTION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042920" y="198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3" descr="Четыре вида продвижения товара в маркетинге"/>
          <p:cNvPicPr/>
          <p:nvPr/>
        </p:nvPicPr>
        <p:blipFill>
          <a:blip r:embed="rId1"/>
          <a:stretch/>
        </p:blipFill>
        <p:spPr>
          <a:xfrm>
            <a:off x="0" y="836640"/>
            <a:ext cx="9174240" cy="5113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713880" y="5921280"/>
            <a:ext cx="70009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Прямой маркетинг, реклама, выставки, стимулирование продаж, P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12:05:41Z</dcterms:created>
  <dc:creator>Riabova Elena</dc:creator>
  <dc:description/>
  <dc:language>en-US</dc:language>
  <cp:lastModifiedBy>Marketing</cp:lastModifiedBy>
  <dcterms:modified xsi:type="dcterms:W3CDTF">2015-05-13T18:00:46Z</dcterms:modified>
  <cp:revision>223</cp:revision>
  <dc:subject/>
  <dc:title>Социальное обеспечение</dc:title>
</cp:coreProperties>
</file>